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CAMERA.WAV" ContentType="audio/x-wav"/>
  <Override PartName="/ppt/media/image4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704-352A-4CA3-925C-0012DA0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19E-0AD3-4CAF-922C-75F5EC48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E46-81F7-4198-8EA4-033B120D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49A-44EA-4F3D-95CB-B8022A79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391-E1A8-4B08-96C1-D6DE54F6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4E12-8FA2-409F-9C26-BA3C8AA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1E13-A2E7-471D-9308-410653B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C23-19A9-4E3F-8FE7-84CE6C7E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B8FB-A319-4CB9-867C-0EC33E7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1A0F-1A9F-492D-9D6A-55DFC75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CFAE-057C-4CC1-BB13-7DA1096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D28-BCD2-4DA6-9DDF-62E4701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CDA1-9638-4585-A518-FDFA3F4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D59B-DB67-443C-927C-35572BC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42E3-C1DB-4865-8625-686430F5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9E5E-C663-4BB3-8B0A-75236DCA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253-33F6-45F4-9FFF-26BEAF9E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B9B-D514-4F79-9D96-57B51491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994-A7FE-43E5-8906-34CCD52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6C9-4CD8-4A36-A0DB-F57670D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7DA-B0B5-415E-94B5-E5E4FA5B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74C-27C0-4819-AF4B-94CE116C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5E9-D1E7-4E4F-A0A7-D3DBAE0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367-3586-4791-AFAC-2557BD4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FA53-3CA8-4910-92D6-E861223F6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E2EF-34D5-4571-BBCE-1B1DD2B880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najemen Industr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ab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842F-ED47-4D4E-8271-54647EC387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perusahaan indust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berapa hal penting dalam pembahasan makna manaje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apa manajer itu 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a itu manajeme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a yang dilakukan manajeme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apa manajer it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ggota organisasi yang mengintegrasikan / mengkoordinasikan aktivitas kerja yang 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vel manajer : top, middle dan first line manaj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C92-1DBC-47B1-90CF-DFE2A2ABF8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odel proses komunikasi sederhan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giri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Ber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er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Model proses komunikasi kompl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Sumber mempunyai gagas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Mengir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mikiran/ kesan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umpan bal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Diterjemahkan atau disandik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5. Diterjem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 dalam kata-kata dan simb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kembali 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gasan gaga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isampaikan atau dikirimk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Pener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bg berita kepada pene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menangk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bol-simb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514600"/>
            <a:ext cx="40384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990720"/>
            <a:ext cx="16002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518148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2200" y="990720"/>
            <a:ext cx="16002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990720"/>
            <a:ext cx="1447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5105520"/>
            <a:ext cx="403884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3657600"/>
            <a:ext cx="403884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3657600"/>
            <a:ext cx="24382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2514600"/>
            <a:ext cx="24382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1219320"/>
            <a:ext cx="99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12952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46483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3526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391520" y="335232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486040" y="289548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548640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15200" y="4876920"/>
            <a:ext cx="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58E-512D-4BD1-A75B-E2B69B6BB52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90480" y="256680"/>
            <a:ext cx="79185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Model komunikasi organisas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ktifitas komunikasi organisasi dipengaruhi ole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uran komunikasi formal, yang dipengaruhi dalam dua car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utan saluran formal semakin melebar sesuai  perkembangan organisas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pat menghambat aliran informasi antar tingkat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C4C-4ED9-463D-9E76-C9218A772D6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Struktur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bedaan kekuasaan/kedudukan menentukan pihak-pihak yang berkomunikasi/isi dan ketepata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Spesialisasi jabat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sialisasi jabatan  mempermudah komunik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Kepemilikan informa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 punya informasi khu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91E-26C3-4390-98E7-B224A70CFE1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ipe-tipe jaringan komunika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AED-B896-40F9-8BDA-847E60A704E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90480" y="257040"/>
            <a:ext cx="79185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aluran komunikasi dalam organisas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unikasi Verti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unikasi ke atas : informasi apa yang ada di baw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oran, penjelasan, gagasa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int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Komunikasi  ke bawah : pengarahan, informasi, instru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sehat/sa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Komunikasi horisontal sifat koordina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munikasi antar anggota dalam kelompo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munikasi antar kelomp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Komunikasi dia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tong menyilang diagonal rantai peritah       hasil hubungan lini dan st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579132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7EA-7A0F-47A8-A8B5-DD54E2D8509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 Dire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j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j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j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j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masa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Produks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Kauang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Person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380880"/>
            <a:ext cx="2286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1066680"/>
            <a:ext cx="16002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1066680"/>
            <a:ext cx="16002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1066680"/>
            <a:ext cx="14479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1066680"/>
            <a:ext cx="16002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9144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914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914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914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2680" y="190512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190512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41911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4191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4340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816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4952880"/>
            <a:ext cx="380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4952880"/>
            <a:ext cx="380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4952880"/>
            <a:ext cx="380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4952880"/>
            <a:ext cx="380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4952880"/>
            <a:ext cx="380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5880" y="4952880"/>
            <a:ext cx="3812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4952880"/>
            <a:ext cx="380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3812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2666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2666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7240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0968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2448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5257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94D-EE12-48BE-93CA-51F78F2FAEB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Hambatan terhadap komuniksi efektif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batan organisa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gkatan hirar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wenang manaj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sial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batan antar priba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epsi selek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us / kedudukan komun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adaan membela di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dengaran lem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tidaktepatan penggunaan baha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C26-D799-4999-BFD6-BB2842F9A64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Peningkatan efektivitas komunikas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sadaran akan kebutuhan komunikasi efektivi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ggunaan umpan bal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jadi komunikator yang lebih efekt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doman komunikasi yang ba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i kejelasan gag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iti tujuan komun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timbangan fisik manu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nsultasi dgn berbagai fih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anan nada / ekspr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il kesempatan umpan bal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kuti terus komuni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nsisten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ndakan doron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dengar yang ba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5486400"/>
            <a:ext cx="75960" cy="76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305-6F80-4535-A314-9529BFA8DE8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ktronic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kulasi data dan teks antar k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Confer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temuan melalui telekomunikasi biasanya transmisi satelit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    Telecom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akaian komputer yang memungkinkan individu bekerja di rumah, hanya memngirim pekerjaan ke kantor lewat telpon atau data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690480" y="256680"/>
            <a:ext cx="79185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Komunikasi dan perkembangan Teknologi Informas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B37-E23E-40CC-9C84-DC8BD5B8F1E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Manajemen Konfli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B181-3833-4BA8-8A52-210562A0CAC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a manajemen it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s koordinasi dan integrasi aktivitas kerja sehingga bisa mencapai efisiensi dan efektivitas melalui orang 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isien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bungan input dan output serta tujuan agar meminimasi biaya sumber d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ektiv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capaian tuj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a yang dilakukan manajer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lakukan fungsi-fungsi manajemen, yakni planning, organizing, leading, contro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18A-4FBD-45C4-967C-59A885274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nflik, kompetisi, kerjasa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nfli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ketidaksetujuan antara individu atau kelompok dalam organisasi tentang kebutuhan pengelolaan sumber daya di dalam kondisi saling ketergantu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mpeti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situasi dua atau lebih kelompok bersaing, tetapi tidak saling mempengaru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jas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proses bekerja sama untuk mewujudkan tujuan bers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0BE-1257-466F-B8F5-33A1475325A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 dari manajemen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jer harus mencoba menemukan jalan untuk menyeimbangkan antara konflik dan kerja s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 dua pandangan tentang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dangan tradi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 tak per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 meru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 merupakan tanda bahwa kesalahan dalam manajem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BAC-7A39-4CFC-A9E2-68AD0207EDC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onist (moder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 itu per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 bisa merusak tetapi juga bisa membuat efek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flik dapat mencari / menemukan solu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 ada yang bermanfaat dan ada yang merus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manfaat : konflik fung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sak : konflik disfung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541-5A5D-45C8-8580-149B2C88CEB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m tipe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lik internal indivi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lik antar indivi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lik antara individu dan kelomp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lik antara kelompok pada organisasi yang s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lik antar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lik antar individu berbeda organisas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9AC-D448-472C-B51A-54119E80863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ber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akaian sumber daya manusia bers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bedaan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tergantungan aktivitas 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bedaan nilai / pers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ya indivi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ga metode penyelesaian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si konf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ksi konf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usi konf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BF7-66A9-4881-B768-178105C74F1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si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awa ke pihak lu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ukturisasi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angkitkan kompeti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ilih manajer yang t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ksi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ing memberi inform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ingkatkan hubungan sosial antar kelomp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inta pimpinan kelompok bernegosi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BE4-0B57-4005-98DC-0862729A991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usi konfli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si (ada yang menang dan ada yang kala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romi (konsens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konflik antara lini dan staf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dangan dari lin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kuasaan staf berlebi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 tak beri saran yang prak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dangan dari staf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i memberi kekuasaan pada staf sangat ke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i tak menuruti saran dari st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A51-FCBA-41BF-9558-47523C2C978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n untuk penyelesa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ility yang j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tivitas yang terintegr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dikan bagi lini agar memakai staf semesti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 manajer dan karya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yawan dan serikat peker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si konflik negosi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juan jelas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 terburu-bu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apan matang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ai pendengar yang ba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dalikan emosi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jar memahami orang 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19D-EAE1-40EC-9699-1CE068B3D4C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Konsep Pengendalian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506A-A2A2-451C-BA5C-40E28F8D7B4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ertia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ndalian adalah proses untuk menjamin tujuan terca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hapan proses pengendal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apan standar pelaks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ukuran pelaks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cekan atas hasil apakah sesuai sta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ambilan tindakan korek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1F4-CCBC-41B6-A47D-2673AA5313CC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definisikan tujuan / sas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bangun strate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gembangkan rencana untuk koordinasi aktiv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ganizing, menentuk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a yang perlu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apa yang melakuka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gaimana melakuka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apa dan kepada siapa melapor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0F3-5252-44BC-B039-4987FF6C0D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kema tahapan pengendali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tap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guk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aksan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aksan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uai stand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dakan kor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2057400"/>
            <a:ext cx="182880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76720" y="2057400"/>
            <a:ext cx="21333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3352680"/>
            <a:ext cx="2666880" cy="10670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62320" y="2590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3505320"/>
            <a:ext cx="236232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15000" y="3886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315200" y="2514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410080" y="25146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876920"/>
            <a:ext cx="23619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4340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1DF-DD6D-483E-A7E2-F6A1EBC1E9B6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etapan standar pelaksa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 : patokan penilaian hasil-ha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ujuan, sasaran, target, kuota,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kuran pelaksa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serv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poran (lisan, tertul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pek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uj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D0B-11C1-44D5-9A26-7A501E47C4A9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cekan atas hasil apakah sesuai stan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si penyimpanga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ompl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mbilan tindakan korek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ubah standar (terlalu rendah, tingg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ubah cara dalam anali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ubah pengukuran pelaks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EB5-73AA-4739-9D0A-56612A41154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tingkah pengendalian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ubahan lingkungan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ngkatan kompleksitas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salahan-kesala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butuhan pendelegasian wewen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D39-1CA1-448D-AE25-83D7A0800910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jer dalam Pengendalian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wasan dianggap mengancam kebeba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u untuk menjamin pencapaian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gas manajer : menemukan keseimbangan antara pengawasan organisasi dan kebebasan priba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D52-B2FF-40C5-B261-21CE2A002B1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enis / Tipe Pengendali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ndalian pendahuluan (pre-action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sia, bahan baku, sumber keuangan apakah sudah dianggarka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ndalian pengarahan (steering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eteksi penyimpangan dan korek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ACC-3C3C-4D56-BE39-02960C50AE24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wasan penyaringan / pengujian (Yes / No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uk menyaring prosedur yang harus diik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wasan akhir tindakan (post action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ukuran hasil kegiatan / pelaks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B8B-9492-4122-A9F9-D326BE87E729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endalian yang efekti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u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at w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kus pada titik strateg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s secara ekono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s secara organisat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E02-EB72-474E-8198-9C6D9BFACB00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endalian yang efekti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koordinasi dengan aliran kerja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ksi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terima oleh anggota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42A-786A-43D9-945C-9A2B8FB65EF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rmasalahan dalam pengendalian yang efekti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tor yang mudah terukur mendapat bobot besar, faktor yang sulit terukur mendapat bobot ke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lalu ditekankan pada faktor jangka pend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pengendalian mungkin tak bisa disesuaikan terhadap perubahan kepentingan aktivitas dan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CBB-D5D1-4DA4-94F9-57305188C22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din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garahkan dan memotiv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ilih komunikasi yang paling efek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yelesaikan konf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ollin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onitor aktivitas apakah sesuai dengan renc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perbaiki penyimp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8BA-A09E-498E-8B01-EAE0AC8F1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an manajem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Robbins, 1999:13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personal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bagai figur kep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an sebagai pemimp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rkomunikasi untuk membangun dan mempertahankan saling pengertian dan kerja s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al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e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rubicara aktivita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cisional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wirausah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anganan gangg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okasi sumber d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7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gosi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320-904E-48A9-A5E2-2DEA1C3948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an manaje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Rigs, 1980:58-6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ordinasi, agar aktivitas efektif, dengan tahap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mun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rt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bungan sesama manu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rjas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ordin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ndalian, melalu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bijakan yang 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ndar ope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nsip perkecual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sonalia yang bertanggung jaw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8AD-96F4-4DBE-A93C-5205E0CFAA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gemen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chnic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tahuan dan kemampuan bidang yang spesif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mampuan bekerja bersama orang lain, baik individu maupun kelomp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u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mampuan untuk berfikir dan mengkonsep suatu situasi yang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mpu melihat suatu organisasi secara keseluru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mpu memvisualisasi bagaimana menyesuaikan organisasi dengan lingku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991-4B6C-4760-8EA0-61E1F767AF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 perusahaan / industri dapat dipandang terdiri dari 5 ha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 Oper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uktur manaj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lisa ope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ko dan perama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uangan dan mod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encanaan sumber da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set dan pengemb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silitas fis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encanaan produ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ktiv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E3F-6AFE-4F80-BE0C-5B46A05B5D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ndalian produk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iran prod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iran b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ndalian kuant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ndalian kual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 person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arikan dan pelati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bungan indus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ob dan penggaj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tiv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676-934E-4D06-9306-3F5E872049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ordinasi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masa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ndalian in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lima hal tersebut membentuk lima rantai saling berhubungan, yakni secara berurut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mber d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son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gan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3D6-5AF8-41C0-8483-21D2C108EF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dahulu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rtian dan Lingkup Kajian (Sesi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daya dan Lingkungan Industri (Sesi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nsep Perencanaan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Sesi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organisas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nsep Pengorganisasian (Sesi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wenang dan delegasi (Sesi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gelola Perubahan (Sesi 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6DA-6F12-40F0-89F9-0CE72D4DAC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  <a:ea typeface="ＭＳ Ｐゴシック"/>
              </a:rPr>
              <a:t>Budaya dan Lingkungan Industr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si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9D43-B03C-4B48-9680-9852AB4E0D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aya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ial discretion (kebijaksana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gkungan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962520"/>
            <a:ext cx="1295280" cy="914400"/>
          </a:xfrm>
          <a:prstGeom prst="up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209680"/>
            <a:ext cx="1295280" cy="9907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55B-AD89-41C9-9528-16022EC51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  <a:ea typeface="ＭＳ Ｐゴシック"/>
              </a:rPr>
              <a:t>Budaya Organisa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aya organisasi menunjukkan bagaimana organisasi mempelajari (mengidentifikasi, menanam, mengaktualisasi) suatu nilai secara berulang-ulang dan konsisten, sehingga masyarakat dapat mengamati atau merasak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8C8-4A17-4ED2-9F89-01ED0C2998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rt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atu sistem nilai yang mencerminkan bagaimana pekerja bertindak sehingga hal itu akan mampu membedakan suatu organisasi dengan yang 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daya organisasi tersusun oleh 7 dime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B37-2B12-49F7-A24C-2D162CCE1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on and risk ta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ttention to d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Outcome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ssive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219320"/>
            <a:ext cx="60984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7960" y="121932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6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51460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38280" y="3505320"/>
            <a:ext cx="457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343400" y="350496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410080" y="3504960"/>
            <a:ext cx="533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18C-68E5-492F-8E74-1307CE5D94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 hubung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295280"/>
          <a:ext cx="7412040" cy="50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41204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937-6A5C-466B-BF9C-7088483CA4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Lingkung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si luar atau kekuatan yang potensial mempengaruhi kinerja organisas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idakpastian lingku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ajat perubahan dan kompleksitas lingkungan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BDB-B1F7-42D7-B832-5BA1BC7B69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untung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gkun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36576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971800"/>
            <a:ext cx="365760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1371600"/>
            <a:ext cx="403848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BA3-F76A-436D-8AE9-01809D195B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tor-faktor lingkungan eksterna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gkungan eksternal mikro : berpengaruh lang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aing (tipe, jumlah, posi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masok (kemampuan, reputasi, pelayanan, harga, potong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langgan (profil, poten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mbaga keua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r tenaga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wakilan-perwakilan pemerin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573-29CF-40C2-955F-D0BD4ADD4B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gkungan eksternal makro : berpengaruh tak lang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ono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ruh lingkungan dapat pula dicermati dengan munculnya pemikiran baru / cara pandang baru terhadap berbagai aspek dalam manaj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6CB-3610-45F7-B4E3-36148E444D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pemimpinan (Sesi 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munikasi (Sesi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 Konflik (Sesi 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ndali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Sesi 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F85-B5B8-4C91-9FC4-BC839BD55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85800" y="1219320"/>
          <a:ext cx="7772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772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ubahan cara pand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C3C-E942-4FE1-8B21-2C1421B067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85800" y="1228680"/>
          <a:ext cx="777240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8680"/>
                    <a:ext cx="77724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09F-0013-4D7D-B938-B7E6760194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685800" y="1220760"/>
          <a:ext cx="7772400" cy="44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0760"/>
                    <a:ext cx="777240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E2D-51C7-47D7-BD81-AAE6C20271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Konsep Perencana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174B-ED29-446C-B1FA-0D5EE88D23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erti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ilihan kegiatan dan diputuskan apa yang harus dilaksanakan, kapan, bagaimana, oleh si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atu proses yang tak berakhir setelah ditetapka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lu modifik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24B-F857-4468-81C5-3BF684120C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hapan perencana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etapkan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umuskan keadaan saat 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identifikasi kemudahan dan hamba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embangkan rencana untuk 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4B5-1ADB-4E1C-9338-C4ED6E3EE3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enapa perlu perencana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ve benef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ana sebagai pedoma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ngurangan kesal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benef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ana sebagai pedoma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ningkatan kesukses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7A3-D948-4C9A-95CD-312091B8D1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faat Perencana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yesuaian terhadap lingkunga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ahaman seluruh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empatan tanggung jaw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ah melakukan koord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urangi pekerjaan tak pa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hemat waktu, usaha, d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729-5B42-46BA-9766-6624149857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elemahan Perencana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derung menunda pekerjaan, dengan dalih masih perlu direncanakan du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u waktu, usaha yang “cukup” untuk membuat perenca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atasi inisiatif dan inovasi yang timbul sesaat, ketika perencanaan telah ditetap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BA4-5D41-4499-8615-E617D3F996E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Hubungan dengan fungsi-fungsi manajemen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743200"/>
            <a:ext cx="2895840" cy="2514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2819520"/>
            <a:ext cx="3429000" cy="2438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895480"/>
            <a:ext cx="251460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676520"/>
            <a:ext cx="754380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95680"/>
            <a:ext cx="7543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88F-FEA0-4B0F-B3BA-7556455238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ngertian dan Lingkup Kaji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CECE-CA80-46A9-9895-FFF9B0041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ipe-tipe Perencana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ncanaan berbeda karena perbeda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e organisas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tu terten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j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681-083B-4876-A040-7B7E179D06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eberapa dasar klasifikasi  perencanaan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dang fung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ksi, pemasaran, keuangan, person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gkatan oper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uruh  organisasi, satu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f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pleksitas, fleksibilitas, rahasia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gka pendek, menengah, panj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EF9-46CD-4D70-A47B-59DA3B3DA9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rarki Perencana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ju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cana Strateg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cana “proyek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cana ru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bija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ga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edur dan metoda stand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y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atu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1295280"/>
            <a:ext cx="3657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429000"/>
            <a:ext cx="2438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057400"/>
            <a:ext cx="3657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743200"/>
            <a:ext cx="3657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114800"/>
            <a:ext cx="2438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3429000"/>
            <a:ext cx="2438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4952880"/>
            <a:ext cx="35812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5638680"/>
            <a:ext cx="24386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114800"/>
            <a:ext cx="14479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638680"/>
            <a:ext cx="24382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4495680"/>
            <a:ext cx="1523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600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8098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23623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44956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733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495680"/>
            <a:ext cx="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5334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845-FFBF-4617-8EA7-96464B60FF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encanaan Strategik dan opera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1447920"/>
          <a:ext cx="7924680" cy="4800600"/>
        </p:xfrm>
        <a:graphic>
          <a:graphicData uri="http://schemas.openxmlformats.org/drawingml/2006/table">
            <a:tbl>
              <a:tblPr/>
              <a:tblGrid>
                <a:gridCol w="1676520"/>
                <a:gridCol w="3124080"/>
                <a:gridCol w="3124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s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has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langsungan dan Pengembangan janka panja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goperasi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ar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untungan waktu mendata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a/Keuntungan saat i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as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ber daya akan data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ber daya yang 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gembangan poten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isiensi dan stabili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sempantan akan data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nia bisnis saat i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ksib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rokra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pemimpin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sa perubahan radik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serva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cahan masal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sipasi, pendekatan, bar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ko tin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galaman masa la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ko rend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6C0-19EB-46B1-9CB6-D310229A2D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Proses perencanaan Strategik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lai-nila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Tanggung jawa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ajem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Perumusan dan penetapa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sosial perusah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/tuju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Profil perusahaan, identifikas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Analisa lingkungan ek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juan dan strategi saat in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nal (mikro dan makr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Analisa internal perusahaan: kekuatan dan kelema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Identifikasi kesempatan dan ancaman strateg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Pembuatan keputusan strateg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mengembangkan alternat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mengevaluasi alternatif           - memilih alternat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Tujuan jangk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u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j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juan/Sasar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ategi  Operas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hun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Implementasi strate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Peninjauan kembali dan evalu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838080"/>
            <a:ext cx="266724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1676520"/>
            <a:ext cx="26672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676520"/>
            <a:ext cx="28954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514600"/>
            <a:ext cx="5105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352680"/>
            <a:ext cx="472464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419720"/>
            <a:ext cx="26668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4419720"/>
            <a:ext cx="335268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5257800"/>
            <a:ext cx="26668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5257800"/>
            <a:ext cx="33530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791320"/>
            <a:ext cx="335268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6324480"/>
            <a:ext cx="33526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9528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286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1240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60958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1219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12193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9907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4572000"/>
            <a:ext cx="1524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5410080"/>
            <a:ext cx="1524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198108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2286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1911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5562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129528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9907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1295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33160" y="6477120"/>
            <a:ext cx="4724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33520" y="1218960"/>
            <a:ext cx="0" cy="5257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915400" y="190512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33520" y="1143000"/>
            <a:ext cx="182880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610120" y="6019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933960" y="1905120"/>
            <a:ext cx="1904760" cy="75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F0B-ABEB-4BEE-BD08-8078BFCDBC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ebaikan  Perencanaan Strategi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pedoman konsiste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antu dalam pembuatan keputu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inimumkan  kesala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E53-07B3-42E5-B145-FFDA27B85D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elemahan Perencanaan Strategi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u investasi waktu, uang dan  or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atasi  pada pilihan yang penting rasional dan bebas resi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77B-C6DF-4B6D-8E4A-B53DCDC11B6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Hambatan Perencanaan yang efektif : 2 jeni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tidakmampuan individu perencana untuk melakukan kegiatan perenc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ngganan anggota untuk menerima perencanaan, karena perubahan yang ditimbulkanny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16A-84EF-4181-AFF1-863ED82682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ak mampu merencanakan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ang  pengetahuan tentang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ang pengetahuan tentang lingkung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mampu melakukan peramalan yang efek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sulitan perencanaan  oparasi yang tidak berul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a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ut ga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rang percaya di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83B-9246-4387-865C-DAAD704E4C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Keengganan menerima perencanaan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entangan dengan kepent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urangi kekuasaan , karier, geng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atasi kerja yang disu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melihat nilai peruba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968-E985-4685-B4A9-41798B31877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 perusahaan industri dapat diartikan sebagai pengelolaan suatu perusahaan industri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al tersebut dapat dijelaskan melalui penjabaran dua pengertian dasa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usahaan indust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686-9D5C-4391-BEEB-9B9328ED42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a mengatasi hambat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ptaan sistem organisasi yang te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berbagai bentuk bantuan secara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batkan karyawan dalam proses perenca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 lebih banyak inform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3CD-E890-4108-9E0D-70D0A6E7ED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iteria penilaian efektivitas renc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gu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epatan/obye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ang ling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ktivitas bia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untabili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epatan w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28A-1586-42D4-9560-8B7B85BD2E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Konsep Pengorganisasi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EB3-890D-4817-A000-C9BE29803CB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rtian pengorganisas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ancangan struktur f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aktiv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elegasian tugas dan wewen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hapan proses pengorganisas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erinci seluruh aktivitas / pekerj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agian pekerj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koordinasikan pekerj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F0F-62E6-45B7-B7C6-C3A91A23183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berapa aspek dalam pengorganisas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agian ker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sud bagan organ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tuk bagan organ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e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gan organisasi proyek dan matr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si inf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ompok kerja formal dan 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si dan permasal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F21-54DD-486A-9FE5-63F97D1327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agian 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ergi dari individu-individu (division of lab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gan organisasi, menggambark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mbagian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tai perin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gakatan manaj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tuk bagan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tuk piramid : sederhana, je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tuk horisontal : aliran dari kiri ke ka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tuk lingkaran : penekanan pada hubungan antar jaba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2CE-AB1D-4878-BF6C-2C99E3C4F8C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ement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entukan departemen berdasark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sional : pemasaran, produksi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al : divisi produk, divisi wilayah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ementasi fung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baika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5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jaga kekuasaan dan kedudu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5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sialisasi, sehingga efis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5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dah pengawasan dari manajemen punc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emahan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5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pat menciptakan konflik antar fungsi yang 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5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gapan datang lambat, karena berjenj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5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dangan anggota sempit, kurang inovat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5D4-7311-423F-877F-CF76C93D7A3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838080" y="990720"/>
          <a:ext cx="71629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162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85C-5063-458A-B835-532EFFC3650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ontoh bagan organisasi departementasi divisional atas dasar produk 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" y="2057400"/>
          <a:ext cx="86104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610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D05-62D4-4A2B-806E-F7CC5CB43CD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ktur Divi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ba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ungkinkan tanggapan yang cep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gembangan strategi yang k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ggung jawab dan prestasi kerja jelas, divisi mana yang laba atau ru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cok untuk lingkungan yang cepat berub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em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ungkinkan konflik diantara tugas-tugas dan prioritas-prio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rang jelas delegasi wewenang manajer div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alah alokasi sumber daya dan distribu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plikasi sumber daya dan perala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3FB-6451-49DD-A266-DC5E207B5CE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usahaan indust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dapat dijelaskan melalui penjabaran proses kegiatan ekonomi dasar yang meliput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 pr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s manufaktur / pengol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s distribu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ri produsen ke produ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ri produsen ke kons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 ja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0EA-E0AE-4299-8541-F9BBDE308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ktur organisasi lainny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ktur organisasi proyek, yakni pembentukan tim /  spesialis untuk tujuan khu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ktur organisasi matri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yawan punya dua ata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tai perintah pertama adalah fungsional(vertik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tai perintah ke dua adalah lateral (horisont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C93-F8CB-4DDC-AF1B-AF71A9B4D31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baikan organisasi matri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isien dalam pemakaian manajer fung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ingkatan pemahaman, motivasi atas masalah strateg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jasama antar disip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emahan organisasi matrik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ingungkan karena punya dua ata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lak perlu koordinasi vertikal dan horis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u ketrampilan lebih banya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BD5-401E-4916-AF3F-286C3A5F38E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ompok kerja fung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satuan tugas khusus (task forces), yakni untuk menangani tugas khu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tia : panitia tetap, panitia ad h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wan atau komis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uk mengelola organisasi kemasyaraka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isi biasanya diangkat oleh pejabat pemerintah, yakni menangani tugas administratif, legislatif,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F29-381D-4EF7-AAA1-E354F71B97D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asi       formal   VS    in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900080"/>
          <a:ext cx="82962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0080"/>
                    <a:ext cx="82962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CB7-B83B-4CBC-A70C-D958451F3CD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organisasi in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 / nilai sosial budaya ditegak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kungan ke tugas manajer mendukung tujuan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unikasi efek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puasan angg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alah dalam organisasi in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ciptakan konf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olakan atas perub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 lain-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F75-4E78-4E3B-A3BC-82B8B6D552B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Wewenang dan Delegas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384E-3816-4DC7-9F81-0475E737458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ty (wewena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lah suatu hak untuk melakukan sesuatu atau memerintah orang lain untuk melakukan atau tidak melakukan sesuatu agar tercapai tuju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 2 sumber munculnya wewenang, yak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dangan klasik (teori formal)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wenang adalah dianugerahkan / diberi / dilimpa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ori penerimaan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wenang timbul bila diterima oleh kelompok / individu kepada siapa wewenang tersebut dijalan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nci dasar wewenang ada pada “yang dipengaruhi” dan bukan “yang mempengaruh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CB4-0F38-4338-B762-CBF0DC83CA3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wenang lini dan staf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wenang lin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asan melakukannya atas bawahan langs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ujudnya adalah wewenang perin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wenang staf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k yang dipunyai oleh staf untuk menyarankan, merekomendasikan atau konsultasi kepada personalia 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 ada wewenang memerintah personalia lini, kecuali ada wewenang staf fung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50B-27A9-4F32-9151-0791982ADAC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(kekuasa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saan tidak sama dengan wewen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wenang adalah hak untuk melakukan sesua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saan adalah kemampuan untuk melakukan hak tersebut, yakni kemampuan untuk mempengaruhi individu / kelomp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saan dan wewenang harus selaras, bila tidak akan menimbulkan konf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saan yang didapat dari wewenang formal, disebut kekuasaan f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1C8-0602-4109-91B1-1F4FE18FE1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saan yang didapat dari seberapa besar para pengikut mengagumi / respek, disebut kekuasaan priba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dangan negatif atas kekuasa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iliki kekuasaan berarti menguasai orang lain yang lebih “lema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dangan positif atas kekuasa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iliki kekuasaan berarti memperhatikan pada pencapaian tujuan kelomp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E01-8CE0-4427-AC3E-AECFB052AA3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usahaan indust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pimpin oleh manaj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gkombinasikan input sumber daya secara proporsional untuk menghasilkan barang / j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production / 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asi bahan mentah menjadi sesuatu yang dibutuhk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ers goods / services indu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ummers goods / services indu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6FE-CE76-4993-9604-427EC8A7D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(tanggung jawa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lah kewajiban untuk melakukan sesuatu yang timbul bila bawahan menerima wewenang atasa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dengan wewenang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eorang diberi wewenang untuk melaksanakan tanggung jaw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454-2B5F-4B60-BD64-AA52B4F717F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g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lah pelimpahan wewenang dan tanggung jawab formal kepada orang 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san perlunya delegas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s agar organisasi efis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jer tak selalu serba ta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gasi agar efektif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jelasan kepada siapa, dari siapa dan kepada siapa bertanggung jawab, ini penting agar tak terjadi overlap (tugas sama kepada lebih dari satu satuan organisa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D6D-3D05-4C24-A9A4-3EA20682B60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nya kesatuan perin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nya tanggung jawab dan wewen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i motivasi, latihan dan pengawas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gagalan pendelegasia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asa lebih” bila dikerjakan sendi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 mau resiko bawahan sal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rang percaya kemampuan baw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ang kalau bawahan “tak berkua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ut bersaing dengan baw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 ada kemampuan manaj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F71-6EFA-4FA8-A88B-A7FA331E4FC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ralisasi dan desentral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ralisasi : pemusatan kekuasaan dan wewenang pada tingkat atas suatu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tralisasi : pendelegasian wewenang ke bawah, yakni ke devisi atau cab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ktor yang menentukan derajat desentralisas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jer puncak ingin ku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gkat pertumbuhan organ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 dan lingkungan organ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yebaran geograf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alitas manajer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9D6-A3D7-432A-A30E-D5FBE5623BE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engelola Perubah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46F-BF31-49C2-BF90-57394C57EF4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kah perubahan (change) it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adalah suatu perubahan (alteration) pada manusia, struktur atau teknolo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ber perubah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tan eks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aturan pemerint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ubahan ekono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kuatan in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ifinisi strate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alatan ba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kap karya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FCC-DD1A-4AA9-B115-FF36084742D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jer : agen perubahan (change ag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 perubahan : orang yang bertindak sebagai katalisator dan mengelola proses peruba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andangan dalam proses perub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lm waters metaph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buah kapal besar berlayar di lautan yang ten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ahami kemana kapal berlay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tuk perubahan seperti datangnya badai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es perubahan : unfreezing, changing, refreez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rubah dari suatu kesetimbangan ke kesetimbangan yang baru melalui tiga jalan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ingkatkan driving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urunkan restraining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binasi keduan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1AD-806F-4D03-95B0-D3D46BDCDA5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ite-water rapids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uah perahu kecil yang melalui sungai beri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um memahami kondisi sun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ubahan adalah sesuatu yang al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elola perubahan adalah suatu proses yang kontinyu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ensi pada peruba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a alasan resisten pada perub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tidakpastia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hatian berlebih pada kepentingan pribad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ercayaan bahwa perubahan bukan perhatian terbaik perusah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8B0-38D8-4244-B02B-38DD9ACD9FE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knik menurunkan resisten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didikan dan komun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sip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ilitasi dan dukun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siasi,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knik mengelola peruba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pada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sialisasi ker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t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tai koma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ar kendali (span of contr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CA6-4451-4ABF-8BA0-220B84863E9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ral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ancangan kembali jabatan (job redesig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pada teknolo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es ke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ala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pada man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k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spekt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la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DD9-F158-4269-9E83-C20E1EC00C7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najem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usahaan indust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usahaan industri sebagai suatu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ganisasi memiliki tiga pila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tinct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iberat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496-A5AF-452D-BFD1-C9345F1C5A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knik pengembangan organis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ksi kelompok tak terstrukt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group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ubahan sikap, persep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26E-92EE-4267-BBE1-D8B5F8D471B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berapa isu dalam mengelola peruba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budaya organis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TQ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stres karya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D4F-3FE3-4F29-9386-9924ACF3AB1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Kepemimpin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B2CE-5DCA-4DD2-907E-472F02E45FA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. PENGERTIAN DAN PENDEKAT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atu proses pengarahan dan pemberian pengaruh pada kegiatan-kegiatan dari sekelompok anggota yang saling berhubungan tugas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kasiny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yangkut orang 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yangkut pembagian kekuas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ain mengarahkan, juga menggunakan pengaru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E35-C63E-46BA-B3B3-0AB33657B8D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iga Pendekat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emimpinan sebagai kombinasi sifat-sifat yang tamp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identifikasikan perilaku-perilaku pribadi yang berhubungan dengan kepemimpi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angan situa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E74-8A3B-481B-91BE-DC55148C336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fat-sifat Pent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mampuan sebagai penga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butuhan akan prestas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gin suk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rdasan (kebijakan, kreati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ega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ercayaan di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sia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096-860E-4057-A414-B339D5FF4E9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dekatan Sif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orang pemimpin itu dilahir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fat kepemimpinan boleh jadi merupakan sifat bawaan dari lahi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ngat menduk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orang pemimpin itu bisa dipersiapkan / diajar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dikan kepemimpi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305-19F4-4F57-AEE3-AA31342A75E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dekatan Perila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kepemimpin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ecahan masal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eliharaan kelomp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ya kepemimpin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si tu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si hubungan karya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ikiran ini melahirkan antara lain Model Kepemimpinan Fie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3EA-B571-4137-A8A8-49F69811E8C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dekatan Situasion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kah gaya kepemimpinan yang idea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pemimpinan itu kompl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ya yang paling tepat tergantung pada beberapa variabel yang saling berhubung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ikiran ini melahirkan antara lain “Path Goal Theory” (Robert Hou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E27-D534-42C0-BBE7-DDA0F8F6D03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. TEORI KEPEMIMPIN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Fied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atu teori yang menunjukkan bahwa efektivitas kelompok tergantung pada kesesuaian antara gaya kepemimpinan dalam berinteraksi dengan bawahan dan kondisi untuk  memberikan kontrol dan pengaruh pada pemimpi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dua tipe gaya seseorang dalam kepemimpinan, yakni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entasi pada tug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entasi pada hubungan dengan bawahan (karya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7A9-3403-42BC-9A1C-0F5C5653B9B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ungsi utama perusahaan indust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Rigs, 1980:33-36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ngembangan prod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mbelian (pemesanan, mencari, subkontra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bungan indus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s manufaktur, pada umumnya ada 3 aspek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knik industri (perencanaan, standarisasi, met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t service (penerimaan, shipping, gudang, transportasi inter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t engineering (mesin, listrik, peralatan, sumber daya, perawat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masa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uangan internal dan pelayanan administr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55A-13D2-4804-A51C-DD89FAC73E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ukur gaya kepemimpinan Model Fied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esioner LPC (Least-Preferred Co-Work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 pasang kata sifat yang diskor 1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Skor tinggi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ientasi pada hubun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skor renda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ientsi pada tu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 situasi yang ada.  Hasil kuesioner tersebut kemudian digunakan untuk menyesuaikan bagi pemimpin dengan situasi terseb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2A0-CD2A-4396-8E29-6BB96A3812F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esioner Model Kontingensi Fie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066680"/>
          <a:ext cx="8076960" cy="5359680"/>
        </p:xfrm>
        <a:graphic>
          <a:graphicData uri="http://schemas.openxmlformats.org/drawingml/2006/table">
            <a:tbl>
              <a:tblPr/>
              <a:tblGrid>
                <a:gridCol w="3164400"/>
                <a:gridCol w="582480"/>
                <a:gridCol w="583200"/>
                <a:gridCol w="499680"/>
                <a:gridCol w="3247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as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pleas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friend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p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ustr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enthusias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husia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per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ooper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t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rrels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moni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Assu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sit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ffic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om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er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ar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33C-7A30-44DC-9B0D-1B7DB4A3E4D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emahan pengukuran  Model Fiedl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idak mengukur 3 dimensi kontingensi, yakn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bungan pemimpin dan anggota (tingkat kepercayaan dan respek bawahan terhadap pemimp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ktur tugas (prosedural dalam memberikan tugas-tug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kuasaan (pengaruh pemimpin yang memiliki kekuasaan berlebih, seperti  pada aktivitas penarikan, PHK, disiplin, promosi dan penggajia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221-6122-4CE6-BFF3-1846F54B84C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ektivitas kepemimpin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l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Fiedl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ientasi tugas cenderung lebih baik pada situasi “very favorable” dan situasi “very unfavor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ientasi hubungan cenderung lebih baik pada situasi “moderately favor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aya peningkatan efektivitas dalam model ini melalui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nggantikan pemimpin baru yang lebih cocok dengan situasi 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rubah situasi agar sesuai / cocok dengan pemimpin 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760-69EB-4B58-93F5-530124EB2C4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-Goal Theory (Robert Hou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laku pemimpin dapat diterima oleh bawahan sejauh mereka bisa melihat adanya kepuasan baik yang segera dapat dirasakan ataupun untuk masa dep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 perilaku pemimpin dalam Model i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ve leader (mengarahkan bawahan bagaimana menyelesaikan tugasny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ive leader (bersahabat dan menunjukkan perhatian pada kebutuhan bawah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tive leader (berkonsultasi dengan bawahan dan memperhatina saran bawahan sebelum memutusk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 leader (menentukan sasaran dan mengharapkan bawahan mencapai sasaran tersebut pada prestasi terbaikny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235-A739-4692-8182-61C64BC44E8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Fiedler dan Model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Fiedler melihat bahwa gaya kepemimpinan dipandang tetap (fixed), yakni orientasi pada tugas atau orientasi pada hubungan (rela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House melihat bahwa perilaku pemimpin bersif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lexibl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suai dengan situasi yang ada, apakah sebagai pengarah, pendukung, partisipatif atau orientasi pada pencapaian sasa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ktor kontingensi lingkungan di luar kontrol bawahan (struktur tugas, sistem wewenang formal, kelompok kerja) dan faktor kontingensi karakteristik pribadi bawahan (pengalaman, kemampu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B06-33C6-45CC-B65F-7D24A3453D0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Kepemimpinan lain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Particip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kelompok aturan yang menentukan bentuk dan jumlah pengambilan keputusan partisipatif pada situasi tertentu yang berbe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berapa gaya dalam model ini : otokratik, konsultatif dan kelompok (gro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ismatic Leadership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-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articulate the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convictions about the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 that is out of the ordi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arance as a  change 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117-C4DC-4AC5-8D96-63B0D33FA20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 Transactional VS Transformational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00cc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al leader : pemimpin yang membimbing dan memotivasi pengikutnya (bawahannya) dalam arah pencapaian tujuan yang telah dikembangkan melalui klarifikasi kebutuhan peran dan tu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00cc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al leader : pemimpin yang memperhatikan pertimbangan individu anak buahnya, stimulasi intelektual dan kar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42E-B242-4C50-8E46-A1FE9AAE91D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0872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Komunikasi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F3C7-D9CF-41AA-82DD-5DB09E9E703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rtia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es pemindahan pengertian (gagasan/informasi) dari seseorang ke orang lain kata-kata, ekpresi wajah intonasi, d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es komunikasi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ar Pribadi, yakni komunikasi antara seseorang dengan orang lain sebagai 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unikasi organisasi, yakni komunikasi seseorang dengan pihak lain dalam kapasitas mewakili suatu lemb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jemen Indust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DED-6445-4E50-BD32-9A7FB2AB781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17:53:36Z</dcterms:created>
  <dc:creator>LAB MSI TIP</dc:creator>
  <dc:description/>
  <dc:language>en-US</dc:language>
  <cp:lastModifiedBy>Didik Purwadi</cp:lastModifiedBy>
  <dcterms:modified xsi:type="dcterms:W3CDTF">2008-03-03T13:36:31Z</dcterms:modified>
  <cp:revision>29</cp:revision>
  <dc:subject/>
  <dc:title>Manajemen Industri</dc:title>
</cp:coreProperties>
</file>